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wmf" ContentType="image/x-wmf"/>
  <Override PartName="/ppt/media/image12.png" ContentType="image/png"/>
  <Override PartName="/ppt/media/image7.jpeg" ContentType="image/jpeg"/>
  <Override PartName="/ppt/media/image9.png" ContentType="image/png"/>
  <Override PartName="/ppt/media/image13.png" ContentType="image/png"/>
  <Override PartName="/ppt/media/image8.wmf" ContentType="image/x-wmf"/>
  <Override PartName="/ppt/media/image10.jpeg" ContentType="image/jpeg"/>
  <Override PartName="/ppt/media/image5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7B75-C421-48AF-887D-A4EF9A988F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日目のカリキュラムに入る前に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日目を簡単に振り返り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前回出席していなかった人も、ここでワークショップの流れをつかんでくださ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回では、まず、本ワークショップの全体像を説明しまし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次に、気象情報や水害のメカニズムや避難行動など、災害の基礎知識を学びまし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次に、ハザードマップなどを確認して、避難場所や地域の危険性を話し合い、住宅地図に記入しまし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最後に、一人ひとりの避難計画を作成するために、避難のタイミング表を作成しまし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回では、まずは一人ひとりの避難計画の後編として、マイマップと避難カードを作成し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最後に、地域としての避難計画として、防災マップと避難行動要支援者の支援マップを作成し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E948-EE47-406D-BDB1-6EDBCBA0106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様々な災害がある中で、今回は水害について、発生のメカニズムや避難に関する情報などを学びまし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ハザードマップで、この地域では、大雨による水害の被害が想定されることを確認するとともに、避難場所などについて、話し合いまし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自宅からどのような経路で避難するのか、避難経路の途中にはどのような危険があるのかを確認しまし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また、経路上にある災害時に役立つものなどについても確認しまし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最後に、避難のタイミング表を作成しまし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大雨の際にどのように防災情報を取得する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どのタイミングで、どこへ、どうやって逃げるかをあらかじめ確認し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また、普段から地域や個人で普段からどのように、水害に備えるのかを話し合いまし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以上が前回行ったことのまとめで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8CA3-F682-4FFB-8DF1-60C9C5CE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736-A86A-4573-B1A8-7DD9AEDA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6B0-BCDE-4F43-BCCC-7CCE7B05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966-2A77-48B3-81DD-5B71EC58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CB9-2423-4954-9DBB-68897038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5CA-33CF-41F2-AE80-2195985B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DB8-000D-4D2D-8C31-5B2CFC98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6A62-9502-43BB-A90E-901C21A9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232-2D80-4B95-BC8A-B5C98BEB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38B-50F4-45ED-BF03-8AAA39E2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44F-E79A-437B-84E2-CA9BC4F8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8736-87CC-4544-8DE2-BEBC6237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0047-BB21-4476-8898-37267A4309AF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B805-1BC3-4BF9-AFD6-48A47F1C1DA6}" type="slidenum">
              <a:rPr b="1" lang="ja-JP" sz="2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jpeg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6"/>
          <p:cNvSpPr/>
          <p:nvPr/>
        </p:nvSpPr>
        <p:spPr>
          <a:xfrm>
            <a:off x="12600" y="1989000"/>
            <a:ext cx="9144000" cy="2620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前回の振り返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2"/>
          <p:cNvSpPr/>
          <p:nvPr/>
        </p:nvSpPr>
        <p:spPr>
          <a:xfrm>
            <a:off x="5724360" y="358920"/>
            <a:ext cx="2880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資料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スライド番号プレースホルダー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44FE-5CBE-46EA-8D32-75388F36454A}" type="slidenum">
              <a:rPr b="1" lang="ja-JP" sz="2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テキスト ボックス 6"/>
          <p:cNvSpPr/>
          <p:nvPr/>
        </p:nvSpPr>
        <p:spPr>
          <a:xfrm>
            <a:off x="0" y="-3240"/>
            <a:ext cx="914400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避難対策ワークショップの進め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テキスト ボックス 2"/>
          <p:cNvSpPr/>
          <p:nvPr/>
        </p:nvSpPr>
        <p:spPr>
          <a:xfrm>
            <a:off x="108000" y="693720"/>
            <a:ext cx="885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当地区でのワークショップを次のとおり２回に分けて開催します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8360" y="1197000"/>
          <a:ext cx="8389800" cy="3527280"/>
        </p:xfrm>
        <a:graphic>
          <a:graphicData uri="http://schemas.openxmlformats.org/drawingml/2006/table">
            <a:tbl>
              <a:tblPr/>
              <a:tblGrid>
                <a:gridCol w="928800"/>
                <a:gridCol w="6414840"/>
                <a:gridCol w="104616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内　　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開催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第１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①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避難対策ワークショップの説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②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気象についての基礎知識、水害についての基礎知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③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地域における危険性の確認（ハザードマップ確認、地図に危険　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　 箇所を記入等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④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一人ひとりの避難計画（避難のタイミングを確認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〇／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第２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①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一人ひとりの避難計画（マイマップの作成、避難カードの記載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②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地域の避難計画（防災マップの作成、避難行動要支援者の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　　難支援マップ等の作成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〇／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5" name="図表 6" descr=""/>
          <p:cNvPicPr/>
          <p:nvPr/>
        </p:nvPicPr>
        <p:blipFill>
          <a:blip r:embed="rId1"/>
          <a:stretch/>
        </p:blipFill>
        <p:spPr>
          <a:xfrm>
            <a:off x="554040" y="5065560"/>
            <a:ext cx="8308800" cy="1365480"/>
          </a:xfrm>
          <a:prstGeom prst="rect">
            <a:avLst/>
          </a:prstGeom>
          <a:ln w="0">
            <a:noFill/>
          </a:ln>
        </p:spPr>
      </p:pic>
      <p:sp>
        <p:nvSpPr>
          <p:cNvPr id="56" name="テキスト ボックス 12"/>
          <p:cNvSpPr/>
          <p:nvPr/>
        </p:nvSpPr>
        <p:spPr>
          <a:xfrm>
            <a:off x="712800" y="5454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防災学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13"/>
          <p:cNvSpPr/>
          <p:nvPr/>
        </p:nvSpPr>
        <p:spPr>
          <a:xfrm>
            <a:off x="2166840" y="536904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人ひと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避難計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14"/>
          <p:cNvSpPr/>
          <p:nvPr/>
        </p:nvSpPr>
        <p:spPr>
          <a:xfrm>
            <a:off x="3809880" y="537696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地域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避難計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15"/>
          <p:cNvSpPr/>
          <p:nvPr/>
        </p:nvSpPr>
        <p:spPr>
          <a:xfrm>
            <a:off x="5478480" y="53784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ｼﾐｭﾚｰｼｮﾝ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図上演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16"/>
          <p:cNvSpPr/>
          <p:nvPr/>
        </p:nvSpPr>
        <p:spPr>
          <a:xfrm>
            <a:off x="7164360" y="54878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避難訓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スライド番号プレースホルダー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045D-DD40-442D-B57D-AB89A27826CA}" type="slidenum">
              <a:rPr b="1" lang="ja-JP" sz="2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テキスト ボックス 6"/>
          <p:cNvSpPr/>
          <p:nvPr/>
        </p:nvSpPr>
        <p:spPr>
          <a:xfrm>
            <a:off x="0" y="-3240"/>
            <a:ext cx="914400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前回までの成果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C:\Users\116611\AppData\Local\Microsoft\Windows\Temporary Internet Files\Content.IE5\3IMYMA9Y\1228428520667582858sivvus_weather_symbols_4.svg.med[1].png"/>
          <p:cNvPicPr/>
          <p:nvPr/>
        </p:nvPicPr>
        <p:blipFill>
          <a:blip r:embed="rId1"/>
          <a:stretch/>
        </p:blipFill>
        <p:spPr>
          <a:xfrm>
            <a:off x="1727280" y="1270080"/>
            <a:ext cx="2023920" cy="1727280"/>
          </a:xfrm>
          <a:prstGeom prst="rect">
            <a:avLst/>
          </a:prstGeom>
          <a:ln w="0">
            <a:noFill/>
          </a:ln>
        </p:spPr>
      </p:pic>
      <p:sp>
        <p:nvSpPr>
          <p:cNvPr id="64" name="正方形/長方形 1"/>
          <p:cNvSpPr/>
          <p:nvPr/>
        </p:nvSpPr>
        <p:spPr>
          <a:xfrm>
            <a:off x="284040" y="1324080"/>
            <a:ext cx="14432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気象災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テキスト ボックス 2"/>
          <p:cNvSpPr/>
          <p:nvPr/>
        </p:nvSpPr>
        <p:spPr>
          <a:xfrm>
            <a:off x="1263600" y="1284120"/>
            <a:ext cx="291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降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Calibri"/>
              </a:rPr>
              <a:t>前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Calibri"/>
              </a:rPr>
              <a:t>線状降水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Calibri"/>
              </a:rPr>
              <a:t>局地的豪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大かっこ 4"/>
          <p:cNvSpPr/>
          <p:nvPr/>
        </p:nvSpPr>
        <p:spPr>
          <a:xfrm>
            <a:off x="2195640" y="1628640"/>
            <a:ext cx="1081080" cy="6699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地震災害"/>
          <p:cNvPicPr/>
          <p:nvPr/>
        </p:nvPicPr>
        <p:blipFill>
          <a:blip r:embed="rId2"/>
          <a:stretch/>
        </p:blipFill>
        <p:spPr>
          <a:xfrm>
            <a:off x="6516720" y="1270080"/>
            <a:ext cx="1655640" cy="1299960"/>
          </a:xfrm>
          <a:prstGeom prst="rect">
            <a:avLst/>
          </a:prstGeom>
          <a:ln w="0">
            <a:noFill/>
          </a:ln>
        </p:spPr>
      </p:pic>
      <p:sp>
        <p:nvSpPr>
          <p:cNvPr id="68" name="正方形/長方形 8"/>
          <p:cNvSpPr/>
          <p:nvPr/>
        </p:nvSpPr>
        <p:spPr>
          <a:xfrm>
            <a:off x="5100480" y="1328760"/>
            <a:ext cx="15321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地震災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図 9" descr=""/>
          <p:cNvPicPr/>
          <p:nvPr/>
        </p:nvPicPr>
        <p:blipFill>
          <a:blip r:embed="rId3"/>
          <a:srcRect l="15479" t="10990" r="14591" b="6815"/>
          <a:stretch/>
        </p:blipFill>
        <p:spPr>
          <a:xfrm>
            <a:off x="3726000" y="2492280"/>
            <a:ext cx="1117440" cy="115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P1010609"/>
          <p:cNvPicPr/>
          <p:nvPr/>
        </p:nvPicPr>
        <p:blipFill>
          <a:blip r:embed="rId4"/>
          <a:stretch/>
        </p:blipFill>
        <p:spPr>
          <a:xfrm>
            <a:off x="179280" y="2787480"/>
            <a:ext cx="1548000" cy="989280"/>
          </a:xfrm>
          <a:prstGeom prst="rect">
            <a:avLst/>
          </a:prstGeom>
          <a:ln w="0">
            <a:noFill/>
          </a:ln>
        </p:spPr>
      </p:pic>
      <p:pic>
        <p:nvPicPr>
          <p:cNvPr id="71" name="図 12" descr=""/>
          <p:cNvPicPr/>
          <p:nvPr/>
        </p:nvPicPr>
        <p:blipFill>
          <a:blip r:embed="rId5"/>
          <a:stretch/>
        </p:blipFill>
        <p:spPr>
          <a:xfrm>
            <a:off x="3924360" y="4302000"/>
            <a:ext cx="1274760" cy="1430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IMG_1095"/>
          <p:cNvPicPr/>
          <p:nvPr/>
        </p:nvPicPr>
        <p:blipFill>
          <a:blip r:embed="rId6">
            <a:lum bright="-10000"/>
          </a:blip>
          <a:srcRect l="0" t="0" r="23" b="16374"/>
          <a:stretch/>
        </p:blipFill>
        <p:spPr>
          <a:xfrm>
            <a:off x="1276200" y="3643200"/>
            <a:ext cx="1567080" cy="1081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3" name="図 11" descr=""/>
          <p:cNvPicPr/>
          <p:nvPr/>
        </p:nvPicPr>
        <p:blipFill>
          <a:blip r:embed="rId7"/>
          <a:srcRect l="10667" t="6461" r="15843" b="9050"/>
          <a:stretch/>
        </p:blipFill>
        <p:spPr>
          <a:xfrm>
            <a:off x="2268360" y="4424400"/>
            <a:ext cx="1727280" cy="1227240"/>
          </a:xfrm>
          <a:prstGeom prst="rect">
            <a:avLst/>
          </a:prstGeom>
          <a:ln w="0">
            <a:noFill/>
          </a:ln>
        </p:spPr>
      </p:pic>
      <p:sp>
        <p:nvSpPr>
          <p:cNvPr id="74" name="テキスト ボックス 5"/>
          <p:cNvSpPr/>
          <p:nvPr/>
        </p:nvSpPr>
        <p:spPr>
          <a:xfrm>
            <a:off x="611280" y="37767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水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15"/>
          <p:cNvSpPr/>
          <p:nvPr/>
        </p:nvSpPr>
        <p:spPr>
          <a:xfrm>
            <a:off x="1306440" y="4724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土砂災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16"/>
          <p:cNvSpPr/>
          <p:nvPr/>
        </p:nvSpPr>
        <p:spPr>
          <a:xfrm>
            <a:off x="2124000" y="5651640"/>
            <a:ext cx="18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高潮災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テキスト ボックス 17"/>
          <p:cNvSpPr/>
          <p:nvPr/>
        </p:nvSpPr>
        <p:spPr>
          <a:xfrm>
            <a:off x="3708360" y="5651640"/>
            <a:ext cx="18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風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テキスト ボックス 18"/>
          <p:cNvSpPr/>
          <p:nvPr/>
        </p:nvSpPr>
        <p:spPr>
          <a:xfrm>
            <a:off x="3419640" y="3592440"/>
            <a:ext cx="18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台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直線矢印コネクタ 19"/>
          <p:cNvCxnSpPr/>
          <p:nvPr/>
        </p:nvCxnSpPr>
        <p:spPr>
          <a:xfrm flipH="1">
            <a:off x="1250280" y="2492280"/>
            <a:ext cx="594360" cy="410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直線矢印コネクタ 21"/>
          <p:cNvCxnSpPr/>
          <p:nvPr/>
        </p:nvCxnSpPr>
        <p:spPr>
          <a:xfrm>
            <a:off x="2550600" y="2997000"/>
            <a:ext cx="1080" cy="595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直線矢印コネクタ 23"/>
          <p:cNvCxnSpPr/>
          <p:nvPr/>
        </p:nvCxnSpPr>
        <p:spPr>
          <a:xfrm flipH="1">
            <a:off x="1726560" y="3068640"/>
            <a:ext cx="1910520" cy="22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直線矢印コネクタ 25"/>
          <p:cNvCxnSpPr/>
          <p:nvPr/>
        </p:nvCxnSpPr>
        <p:spPr>
          <a:xfrm flipH="1">
            <a:off x="2986920" y="3428640"/>
            <a:ext cx="739080" cy="53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直線矢印コネクタ 27"/>
          <p:cNvCxnSpPr/>
          <p:nvPr/>
        </p:nvCxnSpPr>
        <p:spPr>
          <a:xfrm flipH="1">
            <a:off x="3725640" y="3960360"/>
            <a:ext cx="444960" cy="26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直線矢印コネクタ 29"/>
          <p:cNvCxnSpPr>
            <a:endCxn id="71" idx="0"/>
          </p:cNvCxnSpPr>
          <p:nvPr/>
        </p:nvCxnSpPr>
        <p:spPr>
          <a:xfrm>
            <a:off x="4470120" y="4041360"/>
            <a:ext cx="91080" cy="26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85" name="Picture 7" descr="家屋の倒壊"/>
          <p:cNvPicPr/>
          <p:nvPr/>
        </p:nvPicPr>
        <p:blipFill>
          <a:blip r:embed="rId8"/>
          <a:stretch/>
        </p:blipFill>
        <p:spPr>
          <a:xfrm>
            <a:off x="5445000" y="2924280"/>
            <a:ext cx="1278000" cy="1023840"/>
          </a:xfrm>
          <a:prstGeom prst="rect">
            <a:avLst/>
          </a:prstGeom>
          <a:ln w="0">
            <a:noFill/>
          </a:ln>
        </p:spPr>
      </p:pic>
      <p:pic>
        <p:nvPicPr>
          <p:cNvPr id="86" name="コンテンツ プレースホルダー 2" descr=""/>
          <p:cNvPicPr/>
          <p:nvPr/>
        </p:nvPicPr>
        <p:blipFill>
          <a:blip r:embed="rId9"/>
          <a:srcRect l="14" t="637" r="3765" b="4516"/>
          <a:stretch/>
        </p:blipFill>
        <p:spPr>
          <a:xfrm>
            <a:off x="6573960" y="3679920"/>
            <a:ext cx="1382760" cy="101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C:\Users\116611\AppData\Local\Microsoft\Windows\Temporary Internet Files\Content.IE5\OWAV6PC0\tunami1[1].jpg"/>
          <p:cNvPicPr/>
          <p:nvPr/>
        </p:nvPicPr>
        <p:blipFill>
          <a:blip r:embed="rId10"/>
          <a:srcRect l="548" t="21988" r="2212" b="32006"/>
          <a:stretch/>
        </p:blipFill>
        <p:spPr>
          <a:xfrm>
            <a:off x="7070760" y="4869000"/>
            <a:ext cx="2073240" cy="933480"/>
          </a:xfrm>
          <a:prstGeom prst="rect">
            <a:avLst/>
          </a:prstGeom>
          <a:ln w="0">
            <a:noFill/>
          </a:ln>
        </p:spPr>
      </p:pic>
      <p:sp>
        <p:nvSpPr>
          <p:cNvPr id="88" name="テキスト ボックス 39"/>
          <p:cNvSpPr/>
          <p:nvPr/>
        </p:nvSpPr>
        <p:spPr>
          <a:xfrm>
            <a:off x="5073480" y="3916440"/>
            <a:ext cx="18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地震災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40"/>
          <p:cNvSpPr/>
          <p:nvPr/>
        </p:nvSpPr>
        <p:spPr>
          <a:xfrm>
            <a:off x="6327720" y="4684680"/>
            <a:ext cx="18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土砂災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41"/>
          <p:cNvSpPr/>
          <p:nvPr/>
        </p:nvSpPr>
        <p:spPr>
          <a:xfrm>
            <a:off x="7169040" y="5651640"/>
            <a:ext cx="18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津波災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直線矢印コネクタ 42"/>
          <p:cNvCxnSpPr/>
          <p:nvPr/>
        </p:nvCxnSpPr>
        <p:spPr>
          <a:xfrm flipH="1">
            <a:off x="6722640" y="2760840"/>
            <a:ext cx="348480" cy="329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テキスト ボックス 44"/>
          <p:cNvSpPr/>
          <p:nvPr/>
        </p:nvSpPr>
        <p:spPr>
          <a:xfrm>
            <a:off x="6496200" y="2482920"/>
            <a:ext cx="18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地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直線矢印コネクタ 46"/>
          <p:cNvCxnSpPr>
            <a:stCxn id="92" idx="2"/>
          </p:cNvCxnSpPr>
          <p:nvPr/>
        </p:nvCxnSpPr>
        <p:spPr>
          <a:xfrm>
            <a:off x="7434360" y="2851200"/>
            <a:ext cx="38880" cy="837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直線矢印コネクタ 48"/>
          <p:cNvCxnSpPr/>
          <p:nvPr/>
        </p:nvCxnSpPr>
        <p:spPr>
          <a:xfrm>
            <a:off x="7811640" y="2787120"/>
            <a:ext cx="793080" cy="1794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正方形/長方形 52"/>
          <p:cNvSpPr/>
          <p:nvPr/>
        </p:nvSpPr>
        <p:spPr>
          <a:xfrm>
            <a:off x="826920" y="6021360"/>
            <a:ext cx="74170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地域によって異なりますが、様々な自然災害のリスクが存在します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気象についての基礎知識、災害の基礎知識を学びまし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テキスト ボックス 35"/>
          <p:cNvSpPr/>
          <p:nvPr/>
        </p:nvSpPr>
        <p:spPr>
          <a:xfrm>
            <a:off x="539640" y="662040"/>
            <a:ext cx="831060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2f2f2"/>
                </a:solidFill>
                <a:latin typeface="HGP創英角ｺﾞｼｯｸUB"/>
                <a:ea typeface="HGP創英角ｺﾞｼｯｸUB"/>
              </a:rPr>
              <a:t>気象についての基礎知識、災害の基礎知識を学びまし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スライド番号プレースホルダー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0E47-34A6-487E-99C9-4E9E16376909}" type="slidenum">
              <a:rPr b="1" lang="ja-JP" sz="2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テキスト ボックス 6"/>
          <p:cNvSpPr/>
          <p:nvPr/>
        </p:nvSpPr>
        <p:spPr>
          <a:xfrm>
            <a:off x="0" y="-3240"/>
            <a:ext cx="914400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前回までの成果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5"/>
          <p:cNvSpPr/>
          <p:nvPr/>
        </p:nvSpPr>
        <p:spPr>
          <a:xfrm>
            <a:off x="539640" y="870120"/>
            <a:ext cx="831060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2f2f2"/>
                </a:solidFill>
                <a:latin typeface="HGP創英角ｺﾞｼｯｸUB"/>
                <a:ea typeface="HGP創英角ｺﾞｼｯｸUB"/>
              </a:rPr>
              <a:t>ハザードマップで地域の災害想定、避難場所等を確認しまし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スライド番号プレースホルダー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F2EB-BE67-40DF-9583-6004DDFDEAB7}" type="slidenum">
              <a:rPr b="1" lang="ja-JP" sz="2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図 7" descr=""/>
          <p:cNvPicPr/>
          <p:nvPr/>
        </p:nvPicPr>
        <p:blipFill>
          <a:blip r:embed="rId1"/>
          <a:stretch/>
        </p:blipFill>
        <p:spPr>
          <a:xfrm>
            <a:off x="549360" y="1700280"/>
            <a:ext cx="7694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テキスト ボックス 6"/>
          <p:cNvSpPr/>
          <p:nvPr/>
        </p:nvSpPr>
        <p:spPr>
          <a:xfrm>
            <a:off x="0" y="-3240"/>
            <a:ext cx="914400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前回までの成果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テキスト ボックス 2"/>
          <p:cNvSpPr/>
          <p:nvPr/>
        </p:nvSpPr>
        <p:spPr>
          <a:xfrm>
            <a:off x="417600" y="944640"/>
            <a:ext cx="830880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2f2f2"/>
                </a:solidFill>
                <a:latin typeface="HGP創英角ｺﾞｼｯｸUB"/>
                <a:ea typeface="HGP創英角ｺﾞｼｯｸUB"/>
              </a:rPr>
              <a:t>地域の災害リスクについて地図にまとめまし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図 4" descr=""/>
          <p:cNvPicPr/>
          <p:nvPr/>
        </p:nvPicPr>
        <p:blipFill>
          <a:blip r:embed="rId1"/>
          <a:srcRect l="0" t="0" r="14977" b="24847"/>
          <a:stretch/>
        </p:blipFill>
        <p:spPr>
          <a:xfrm>
            <a:off x="1079640" y="1865160"/>
            <a:ext cx="6984720" cy="439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スライド番号プレースホルダー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9E5F-38D1-486D-97A6-EBA0A80781C7}" type="slidenum">
              <a:rPr b="1" lang="ja-JP" sz="2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メモ 8"/>
          <p:cNvSpPr/>
          <p:nvPr/>
        </p:nvSpPr>
        <p:spPr>
          <a:xfrm>
            <a:off x="6372360" y="1989000"/>
            <a:ext cx="1800000" cy="122400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がけ崩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大雨で崩れる可能性があ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メモ 9"/>
          <p:cNvSpPr/>
          <p:nvPr/>
        </p:nvSpPr>
        <p:spPr>
          <a:xfrm>
            <a:off x="2484360" y="5033880"/>
            <a:ext cx="1800360" cy="122400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アンダーパ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大雨で通れなくな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メモ 10"/>
          <p:cNvSpPr/>
          <p:nvPr/>
        </p:nvSpPr>
        <p:spPr>
          <a:xfrm>
            <a:off x="6248520" y="4246560"/>
            <a:ext cx="1798560" cy="122400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備蓄倉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土のうがあ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メモ 11"/>
          <p:cNvSpPr/>
          <p:nvPr/>
        </p:nvSpPr>
        <p:spPr>
          <a:xfrm>
            <a:off x="2744640" y="3213000"/>
            <a:ext cx="1800360" cy="129564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小河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溢れると道路と区別がつかなくな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rcRect l="2669" t="0" r="3147" b="1287"/>
          <a:stretch/>
        </p:blipFill>
        <p:spPr>
          <a:xfrm>
            <a:off x="539640" y="1328760"/>
            <a:ext cx="7780320" cy="5373720"/>
          </a:xfrm>
          <a:prstGeom prst="rect">
            <a:avLst/>
          </a:prstGeom>
          <a:ln w="0">
            <a:noFill/>
          </a:ln>
        </p:spPr>
      </p:pic>
      <p:sp>
        <p:nvSpPr>
          <p:cNvPr id="111" name="テキスト ボックス 6"/>
          <p:cNvSpPr/>
          <p:nvPr/>
        </p:nvSpPr>
        <p:spPr>
          <a:xfrm>
            <a:off x="0" y="-3240"/>
            <a:ext cx="914400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前回までの成果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スライド番号プレースホルダー 49"/>
          <p:cNvSpPr/>
          <p:nvPr/>
        </p:nvSpPr>
        <p:spPr>
          <a:xfrm>
            <a:off x="6867360" y="6399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118D-11F1-49BF-9CE9-A6AC371F9A58}" type="slidenum">
              <a:rPr b="1" lang="ja-JP" sz="2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テキスト ボックス 9"/>
          <p:cNvSpPr/>
          <p:nvPr/>
        </p:nvSpPr>
        <p:spPr>
          <a:xfrm>
            <a:off x="417600" y="650880"/>
            <a:ext cx="830880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2f2f2"/>
                </a:solidFill>
                <a:latin typeface="HGP創英角ｺﾞｼｯｸUB"/>
                <a:ea typeface="HGP創英角ｺﾞｼｯｸUB"/>
              </a:rPr>
              <a:t>避難のタイミングについて表にまとめまし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角丸四角形吹き出し 12"/>
          <p:cNvSpPr/>
          <p:nvPr/>
        </p:nvSpPr>
        <p:spPr>
          <a:xfrm flipH="1">
            <a:off x="142920" y="1328760"/>
            <a:ext cx="3024000" cy="1147680"/>
          </a:xfrm>
          <a:prstGeom prst="wedgeRoundRectCallout">
            <a:avLst>
              <a:gd name="adj1" fmla="val -48337"/>
              <a:gd name="adj2" fmla="val 61023"/>
              <a:gd name="adj3" fmla="val 16667"/>
            </a:avLst>
          </a:prstGeom>
          <a:solidFill>
            <a:srgbClr val="ffffff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[</a:t>
            </a:r>
            <a:r>
              <a:rPr b="0" lang="ja-JP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記載例</a:t>
            </a:r>
            <a:r>
              <a:rPr b="0" lang="en-US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　・高齢なので自発的に避難開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　・近隣の方に声をかけつつ避難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　　　　　　　　　　　　　　　　　な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角丸四角形吹き出し 13"/>
          <p:cNvSpPr/>
          <p:nvPr/>
        </p:nvSpPr>
        <p:spPr>
          <a:xfrm flipH="1">
            <a:off x="3384000" y="1397160"/>
            <a:ext cx="2663640" cy="1079280"/>
          </a:xfrm>
          <a:prstGeom prst="wedgeRoundRectCallout">
            <a:avLst>
              <a:gd name="adj1" fmla="val -18699"/>
              <a:gd name="adj2" fmla="val 68773"/>
              <a:gd name="adj3" fmla="val 16667"/>
            </a:avLst>
          </a:prstGeom>
          <a:solidFill>
            <a:srgbClr val="ffffff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[</a:t>
            </a:r>
            <a:r>
              <a:rPr b="0" lang="ja-JP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記載例</a:t>
            </a:r>
            <a:r>
              <a:rPr b="0" lang="en-US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　・指定緊急避難場所であ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　　○○小学校に避難　　　　　　　　　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　　　　　　　　　　　　　　　な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角丸四角形吹き出し 14"/>
          <p:cNvSpPr/>
          <p:nvPr/>
        </p:nvSpPr>
        <p:spPr>
          <a:xfrm flipH="1">
            <a:off x="6264360" y="1397160"/>
            <a:ext cx="2736720" cy="1079280"/>
          </a:xfrm>
          <a:prstGeom prst="wedgeRoundRectCallout">
            <a:avLst>
              <a:gd name="adj1" fmla="val 23916"/>
              <a:gd name="adj2" fmla="val 64226"/>
              <a:gd name="adj3" fmla="val 16667"/>
            </a:avLst>
          </a:prstGeom>
          <a:solidFill>
            <a:srgbClr val="ffffff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[</a:t>
            </a:r>
            <a:r>
              <a:rPr b="0" lang="ja-JP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課題の例</a:t>
            </a:r>
            <a:r>
              <a:rPr b="0" lang="en-US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　・避難行動要支援者の支援体制を検討する必要があ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　　　　　　　　　　　　　　　　な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角丸四角形吹き出し 15"/>
          <p:cNvSpPr/>
          <p:nvPr/>
        </p:nvSpPr>
        <p:spPr>
          <a:xfrm flipH="1">
            <a:off x="4858560" y="5516640"/>
            <a:ext cx="3600360" cy="1008000"/>
          </a:xfrm>
          <a:prstGeom prst="wedgeRoundRectCallout">
            <a:avLst>
              <a:gd name="adj1" fmla="val 6143"/>
              <a:gd name="adj2" fmla="val -77726"/>
              <a:gd name="adj3" fmla="val 16667"/>
            </a:avLst>
          </a:prstGeom>
          <a:solidFill>
            <a:srgbClr val="dce6f2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項目ごとに付せんの色を変えて整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同様な意見はグループ化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10:49:22Z</dcterms:created>
  <dc:creator>116611</dc:creator>
  <dc:description/>
  <dc:language>en-US</dc:language>
  <cp:lastModifiedBy>和歌山県</cp:lastModifiedBy>
  <cp:lastPrinted>2016-08-17T13:00:29Z</cp:lastPrinted>
  <dcterms:modified xsi:type="dcterms:W3CDTF">2017-03-29T11:25:44Z</dcterms:modified>
  <cp:revision>55</cp:revision>
  <dc:subject/>
  <dc:title>PowerPoint プレゼンテーション</dc:title>
</cp:coreProperties>
</file>